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0A61-8C87-4C0A-B2E8-7AE9BBAC5B72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E507-4CE4-4119-96FB-7572F5EBEDE0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B3C3-3E28-4C14-AD15-D469777CAF9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-28800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3880" indent="-23976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960120" indent="-1918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343880" indent="-1918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728000" indent="-191880">
              <a:buClr>
                <a:srgbClr val="60606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728000" indent="-191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728000" indent="-191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-3016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760" indent="-2512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05840" indent="-2008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07960" indent="-2008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10440" indent="-200880">
              <a:buClr>
                <a:srgbClr val="60606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10440" indent="-200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10440" indent="-200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-47880">
              <a:buClr>
                <a:srgbClr val="999999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103680" indent="-39960">
              <a:buClr>
                <a:srgbClr val="999999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159840" indent="-31680">
              <a:buClr>
                <a:srgbClr val="999999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223920" indent="-31680">
              <a:buClr>
                <a:srgbClr val="999999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288000" indent="-31680">
              <a:buClr>
                <a:srgbClr val="999999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288000" indent="-316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288000" indent="-316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Using Portals and Registrie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Publishing Metadata to GCMD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79754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ola Olsen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1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, Tyler Stevens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1 National Aeronautics and Space Administration (NASA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2 Wyle Information Systems (NASA Contractor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lobal Change Master Dire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(GCMD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GCMD enables the scientific community to discover and access over 25,000 Earth science data sets and servic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GCMD uses the Directory Interchange Format (DIF), a  discovery level metadata standard that is used by NASA and the Committee on Earth Observation Satellites (CEOS)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DIF contains several fields, allowing users to easily find and determine the data set and/or service that is useful to their need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ublishing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35040" y="2362320"/>
            <a:ext cx="120268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docBUILDER is a free, online tool for creating, updating, and publishing metadata entries to the GCMD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Provides a “visual” check-list of required, highly recommended, and recommended fields to populate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Performs validation (checks controlled fields and syntax)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Allows for templates when creating entries with repeatable information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Users can register for an account at https://users.eosdis.nasa.gov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Users can access docBUILDER a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ttp://gcmd.nasa.gov/User/authoring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7960" y="584280"/>
            <a:ext cx="1186200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Using docBUILDER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1"/>
          <a:srcRect l="9691" t="23962" r="11420" b="24427"/>
          <a:stretch/>
        </p:blipFill>
        <p:spPr>
          <a:xfrm>
            <a:off x="2387520" y="3505320"/>
            <a:ext cx="9296640" cy="5410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49" name="TextBox 5"/>
          <p:cNvSpPr/>
          <p:nvPr/>
        </p:nvSpPr>
        <p:spPr>
          <a:xfrm>
            <a:off x="330120" y="43434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Field is checked when complete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TextBox 6"/>
          <p:cNvSpPr/>
          <p:nvPr/>
        </p:nvSpPr>
        <p:spPr>
          <a:xfrm>
            <a:off x="3606840" y="2362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Validate Your  Document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and/or Get Help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TextBox 7"/>
          <p:cNvSpPr/>
          <p:nvPr/>
        </p:nvSpPr>
        <p:spPr>
          <a:xfrm>
            <a:off x="9931320" y="21337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Submit Your Document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to the GCM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TextBox 8"/>
          <p:cNvSpPr/>
          <p:nvPr/>
        </p:nvSpPr>
        <p:spPr>
          <a:xfrm>
            <a:off x="4978440" y="92203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Populate Metadata Fields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grpSp>
        <p:nvGrpSpPr>
          <p:cNvPr id="753" name="Group 12"/>
          <p:cNvGrpSpPr/>
          <p:nvPr/>
        </p:nvGrpSpPr>
        <p:grpSpPr>
          <a:xfrm>
            <a:off x="2463840" y="7696080"/>
            <a:ext cx="8305920" cy="1447920"/>
            <a:chOff x="2463840" y="7696080"/>
            <a:chExt cx="8305920" cy="1447920"/>
          </a:xfrm>
        </p:grpSpPr>
        <p:sp>
          <p:nvSpPr>
            <p:cNvPr id="754" name="Right Brace 13"/>
            <p:cNvSpPr/>
            <p:nvPr/>
          </p:nvSpPr>
          <p:spPr>
            <a:xfrm rot="5400000">
              <a:off x="6235560" y="3924000"/>
              <a:ext cx="762120" cy="8305920"/>
            </a:xfrm>
            <a:custGeom>
              <a:avLst/>
              <a:gdLst>
                <a:gd name="textAreaLeft" fmla="*/ 0 w 762120"/>
                <a:gd name="textAreaRight" fmla="*/ 275040 w 762120"/>
                <a:gd name="textAreaTop" fmla="*/ 24840 h 8305920"/>
                <a:gd name="textAreaBottom" fmla="*/ 8281080 h 830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4"/>
                    <a:pt x="10800" y="207"/>
                  </a:cubicBezTo>
                  <a:lnTo>
                    <a:pt x="10800" y="10500"/>
                  </a:lnTo>
                  <a:cubicBezTo>
                    <a:pt x="10800" y="10604"/>
                    <a:pt x="16200" y="10707"/>
                    <a:pt x="21600" y="10707"/>
                  </a:cubicBezTo>
                  <a:cubicBezTo>
                    <a:pt x="16200" y="10707"/>
                    <a:pt x="10800" y="10811"/>
                    <a:pt x="10800" y="10914"/>
                  </a:cubicBezTo>
                  <a:lnTo>
                    <a:pt x="10800" y="21393"/>
                  </a:lnTo>
                  <a:cubicBezTo>
                    <a:pt x="10800" y="21497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55" name="Straight Connector 14"/>
            <p:cNvSpPr/>
            <p:nvPr/>
          </p:nvSpPr>
          <p:spPr>
            <a:xfrm>
              <a:off x="6664320" y="8381880"/>
              <a:ext cx="0" cy="76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cxnSp>
        <p:nvCxnSpPr>
          <p:cNvPr id="756" name="Straight Arrow Connector 16"/>
          <p:cNvCxnSpPr/>
          <p:nvPr/>
        </p:nvCxnSpPr>
        <p:spPr>
          <a:xfrm flipV="1">
            <a:off x="1625760" y="4494960"/>
            <a:ext cx="762480" cy="3056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7" name="Straight Arrow Connector 30"/>
          <p:cNvCxnSpPr/>
          <p:nvPr/>
        </p:nvCxnSpPr>
        <p:spPr>
          <a:xfrm flipH="1">
            <a:off x="4063320" y="2971440"/>
            <a:ext cx="610200" cy="686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8" name="Straight Arrow Connector 33"/>
          <p:cNvCxnSpPr/>
          <p:nvPr/>
        </p:nvCxnSpPr>
        <p:spPr>
          <a:xfrm flipH="1">
            <a:off x="10769040" y="3047760"/>
            <a:ext cx="229320" cy="5338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reating and maintaining metadata is part of the data management lifecycl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cBUILDER makes it easy for users to update/maintain their metadata entri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F entries provide a direct link (i.e.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ttp://gcmd.nasa.gov/getdif.htm?GES_DISC_AIRI2CCF_NRT_V005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) to metadata that can be added to data management repor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2010. “Directory Interchange Format (DIF) Writer's Guide”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Global Change Master Directory. http://gcmd.nasa.gov/User/difguide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Global Change Master Directory (GCMD). http://gcmd.nasa.gov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docBUILDER: http://gcmd.nasa.gov/User/authoring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Metadata for discove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dvertis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Using portals and registr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Stevens, Tyler B. (GSFC-610.2)[Affiliate]</dc:creator>
  <dc:description/>
  <dc:language>en-US</dc:language>
  <cp:lastModifiedBy>tstevens</cp:lastModifiedBy>
  <dcterms:modified xsi:type="dcterms:W3CDTF">2011-10-12T12:54:24Z</dcterms:modified>
  <cp:revision>84</cp:revision>
  <dc:subject/>
  <dc:title>ESIP Federation 101</dc:title>
</cp:coreProperties>
</file>